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886-23E3-470B-A3C8-E8B45DAA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7BA-BFC6-41E6-9589-1D4B4CD7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B24DB-B2DF-4C51-B680-6E1EBA87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86E35-14A5-4483-B4C0-3122D8D2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105F0-0ED0-444E-892F-C317B95D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33F93-AC11-4327-A7C1-39CDB014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3888E-5610-4310-BFE7-F829885F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F53AC-715E-4F45-8BCC-19579DD1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B178F-B279-4C72-A69F-E432E82D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48464-44F8-4220-AF40-D60DABBE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A1EA6-282D-4192-B65F-A9E21E06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FE23B-1A8F-459D-8C4B-8E7E173F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E4EA-91AC-43EA-B3B6-8EBBEB67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AEED7-6254-4483-85C6-110CCFD5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C9181-5FF0-429C-99B0-4D13C0B7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3C905-93FB-4578-983B-C71C7E03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664F7-0E32-41A3-9639-FFDCDF9B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0942C-ACE9-4E83-A899-8839134B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0FBF6-A923-4FB2-8CBC-08C6F286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FAB76-647E-43E0-926A-0D97A500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72133-49DC-4269-813C-AC4D23A6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52F97-4DD2-411B-B081-868822D0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A9533-5C00-4048-8982-C3F3F66B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B0A-DCE5-47F4-9597-652B315C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589E4-DF3E-47FE-80B0-F9993E72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06C0B-D28C-41DD-9EC4-0FA31EAE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1A82F-6AB9-4ACD-AB62-E5B95C02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7AA87-4F8C-4A9B-AB2D-E21A3A3C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2F731-6BC6-4CC3-90D9-C64993AF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D54FF-7BC7-42B3-AF4A-9074A1EE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5D1A2-36D1-431D-884C-3577568B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331B6-DDAE-4B93-8E2F-BB8DB98E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5B9F8-C698-4E80-9B19-1D0BDC0E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9C218-B983-430F-BAF2-4110B568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D544-035D-476F-878F-DF2BAD09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129A0-34EC-40FC-9D8D-71AFBBAB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8BFC7-20ED-49FD-A508-D4F5B5DA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444D9-7B4A-4925-9182-5B9FB041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88D73-C6A0-47AB-95EF-89CA156A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A4AAB-E8C4-4C68-B495-77B5399E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BA80C-843A-4212-AA47-6EB67C8D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2CA6C-A02D-4228-969F-CFD8D162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B0919-9B2F-4818-AAAB-9CC2D5FE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D976E-9EDD-405F-BFFC-A5D325FC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E6A35-C0E0-4C97-BCC9-AEE94224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EA53-F359-4391-8105-5753B2C2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33D08-09F8-4A55-83AF-839EB783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E88EC-1460-42EF-B0F4-E02F524B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CBF02-A796-4E86-B5DC-F695FBC9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C9D54-F216-4E49-A2C0-627ED4A9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6C91E-E6EC-4630-BD43-0774E226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EA9EA-3C45-46B5-9B1C-07E9DD5E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D7C21-7203-48A1-99A8-2AA37B8B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44990-C29F-4745-B284-453832D0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CAC44-A1C8-47A2-B314-520E7396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C25C7-59E2-441A-BC60-690F4A73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02FE-68EE-4BD2-B629-BC9B3565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3D9E3-5D1D-4C1C-A428-BA9FFD72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2CF6E-A20B-4EF8-BC92-9EE70C77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8EBED-A154-4D7C-8878-461F50DE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55AA7-2AA3-4800-B9FF-FFC7AC27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84903-0B80-4E87-9052-23DFF495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6A14F-E4C8-4DC1-BECA-84829CF2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81F14-6BA0-48E6-B022-8C9E199E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D5B57-BECE-4E4C-BAA3-4177E65D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E74F8-5CA7-4FF1-A42C-2EEFA3A2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EFAFE-5D08-4F66-89A9-79E3BEE1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6D49-E066-4963-9755-5FFFD340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82FD2C-12B5-4411-B539-7758CDED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7B7EF-652C-4850-BF18-23F208B1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097E3-D5E5-4209-9184-CAB65FF9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39448F-8ADD-47B7-90A8-5C5C8775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CEAA9-51BB-47E1-9B67-0725B007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74477-B829-490A-924E-A6B1A9C2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3C557-8E2D-49BC-ADF4-57774748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30FF0-9C19-4CEC-9DFB-21F472B9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FA9EA-C373-4361-9336-8C1BE453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F59D56-D0FC-4574-9AF7-E3689C69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ABFD-70B0-4C22-AB20-7E5784A5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60F23-11CF-4102-8D21-47EE17FC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70E5A4-87C0-4BAC-9310-AB97FA66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98BF1C-FCE0-4A0D-A2A4-9F2675A0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50F5D1-2315-4C51-8E9D-801E6DF6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87B2D-30FA-4B7A-AC2D-3952E10C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FFCB25-1FBD-42A6-9200-FB8625A9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7D802D-97BA-4C87-98D3-8C1761DE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2A9E89-CC2B-4021-97EF-F6196D9F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BFF13A-F6E4-471E-990C-CCD7F12F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F6D68-661C-483A-97C7-A1AA5AEC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2644-11E6-4448-A1CF-4850A116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6AA53-70C8-4C6E-8C2B-68493440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863D2-A8D7-4EC1-AF9D-CA36DC47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B89418-F388-40EC-8DB0-1C9D03F9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A11F1F-B5D9-4EBE-947C-876DD68E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D48A9-3CDD-43B3-8C4E-D0C44A74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EDE4A-EC68-420D-A073-30277C2A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1EAF7-F100-40A4-BEBE-C6013AD4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A7EEB0-C686-4637-AA2F-1CF39CA6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BA3328-F6FC-4B26-804C-E8905CF2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EE3A2-BD91-49D7-9F3F-4A8EFC69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4E03-A721-4F47-A4CB-D410E8A5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48243C-43F9-411C-8BD6-EC1F90F4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11940-3D88-4C7A-A094-9D0A47F8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CCA811-E023-4717-850B-218E5C11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AF6C59-7B63-4952-BA1A-CBE1CBC9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A2FD4-B24A-4709-840C-FFFE781C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41BE63-4747-4AFA-8F43-04879118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B73E2-F3D1-4879-9CD2-DA95DE07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959087-12AD-43D9-BDC9-BBB14822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4B09DD-F027-4AED-A28A-2D4D6AFF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8DD77F-0AD7-455A-9805-8B93CD81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C18-A37D-49FA-B810-FCBED4A0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042B-CC29-4C55-82C6-2FD6E909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B2A692-6969-43F5-B8F8-37925CEA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961209-0656-4472-9699-35C2A6F7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4BEB4D-A664-4D59-9858-006B36CA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4551F1-A3F2-4A51-8C5C-ABB710D0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2FD30C-3BC1-425D-9A2D-F98B32F1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39225E-D50A-416B-A6C0-F400ACF0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0ED0C7-6A22-40FA-BF1E-797B479C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BEA02A-6FCD-44D4-BE27-BD366792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12CA4-E47B-486A-A671-DEAEFF0B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88B550-A717-47F3-8308-A9907F16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B88A-FAF7-406C-A191-B779B4D0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8E5C78-E1F7-4320-B3D9-F1485780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309AD4-8294-4D12-9F8F-C8789186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CDF50F-0FB0-4658-BF9F-B6DEB782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958DD9-4E09-4A14-8127-E61A763A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18DCBB-FE68-4BC7-BA7B-4969EF1A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418EA4-1D02-4F72-BE44-1444319B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583EFC-88F4-451F-827C-7A3515D7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E7F4B9-91F2-4D3E-8D07-E687CDB0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3C7C65-554A-46C3-82BA-7C4317D6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D122D-3A0C-466C-8503-8142638B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B7B1-8AB5-430D-8C28-76701726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504F9C-D1A7-45BD-A3CE-0425C060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7837F6-5904-4B8C-A942-6F1AE704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CE51B2-835E-42D0-887C-E947799D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22D4CE-73C8-4E16-8602-99106156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FD3ED5-2E32-4B98-9740-72D2C93B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C3E2F8-0342-4757-972C-E90F5F7D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A77BAA-44BD-4039-AB57-910A7D59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747146-EED7-4BF7-BAE1-432A5962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F25E13-15D2-4230-9826-F8FED0FD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1F13A8-ED23-4526-845A-F04D8BEB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C02D-07EF-4438-BC77-EA880673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40CDA7-A441-49AE-8F47-97E370BB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2905F8-3712-4FCD-899F-BAC7C21C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9F75ED-4819-4566-8331-B3457817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FE2439-A8D8-4997-A1C5-253D0431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68D659-5AAB-4F44-A23C-4E345918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825826-66B0-4C7F-B382-3FB6EE41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E53A13-B3EB-4159-938B-CB123099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87D297-A32D-49F6-94E2-8F5B2204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2A96FE-DDE7-4619-ADD7-8BA26326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14546F-A6E0-49FB-B1A3-0229806D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6280-A6CE-44CE-AE29-B77388A1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0B89E8-F9C8-468C-96D9-58BFD273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ADF4A9-7199-4CC7-B48A-26131008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553326-A61F-4715-A6FA-82E3B311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33545-E88A-4BDF-A787-B3F6A84E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B7CC66-FC63-4B6F-B9D8-006258F6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40EF99-9178-4B06-9222-6F885342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8342B3-EA15-482C-86D5-E79BB558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F236F7-E3B4-4D3F-9015-90E19739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986689-DAA2-4166-A498-B68DC8D7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643E50-F88B-4188-B5C6-DCD3C5EA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FA94B-C2F8-4AD7-8900-7716B3D0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5A45F-D040-4CB2-88B5-86B9D57D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BAC90B-CB1F-4CA8-924C-FAEC455F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26F4B1-2A4E-460D-812C-EF6BEA8E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E4555-C099-4DD7-8313-F7ACA933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760C-F4D0-4D62-A61A-421F6ED6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FA613-5FCD-4A9C-8B6E-46455585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9BD8-2E59-49C3-8CD9-FFFD2B2D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74F9-D4AC-48FA-8C4F-4137AFE8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FFE53-37BF-417B-96A6-1A76B264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E781-867A-45E0-8E88-AF961938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8FEDB-19D8-4A1A-AE82-5A88A663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C8E0E-E018-489A-8606-D447C868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310F6-B5AD-480B-A57A-A3A83E70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BFA1-7112-4828-80E9-81F78C50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0FB72-3570-4661-8F42-C56ECD2A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20004-309C-4703-9F21-58256495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5E984-CA81-4878-8A40-63B94288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EE69F-44AF-413D-AB49-0B5EC9B5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34DC-D147-4E01-A12B-C8E700BA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D179C-3939-43DE-8F55-469285E8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0AE7C-CA27-4827-A8A2-52F92F4B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70AF3-2C56-401B-8716-F039D26A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48A56-14E1-4CD2-B6ED-F2C6C9D3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EA04A-1991-4215-9E91-86BABC27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42076-429B-4D1A-894F-1AA444BC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11ED8-40F6-4DFD-ACE8-C9B60707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FC4FF-9F85-4777-983A-857EAEED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151BF-BB45-4482-BA54-FCAA91DE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B5A6F-4F15-447F-9EDE-6E87D6C1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984-4869-449B-810C-B3FFED77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E6B97-37A2-4973-B821-DD605593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A2EFD-8BFC-4F38-9336-EE933572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076EC-673A-4938-BF6F-7A2F9FAC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1F379-BAE9-49D8-9DCC-A72B9DEB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BDC96-8E0D-457C-AC63-E06B9246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67E15-D1D3-4063-A373-7F2D8389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22D63-3ABF-404B-B253-A6650029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51D11-BAFF-498D-968E-AFC98239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03E7E-59AD-49D7-9FE1-82942B5A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9E77D-04EA-49C8-83F9-84DA18E2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967-B7B9-419E-A055-3E940776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B4FC8-5EBD-4809-9ED5-038B7335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C5F13-F4FC-4DB3-97C2-2A457D0C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BF823-C6D4-442C-9797-D8C57DF7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BD699-6D4C-4D82-8BDC-918054E9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87013-EE79-41DC-94AC-219D7E82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2816C-CC90-4EDB-889A-1757D29B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EC9C5-8E3C-4509-8EA0-55794B32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F5E3A-4E43-45B9-983E-137A82DA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903B7-BA6A-49E1-9D40-48FE50C8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C4205-1A52-44CD-9190-37FC803F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8FC-2DC6-47EC-8251-36C82EDD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10377-080D-425F-BCC3-B1132FA1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DCD38-2C4C-4326-BB8C-DF34C4EA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53C10-766D-4CA8-ACB6-2137C7BE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8D7F9-9EF3-4DD1-86B8-497735A0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AD240-E450-4531-8799-4087595D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5C7A3-41AF-4507-9A6C-6E161803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D9E86-E926-480C-AAFE-F0C3A974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9E871-0982-459A-930E-53CBB87E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B0E25-FAE7-42DF-B73F-2DEE36F8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AD457-2C12-4A34-8076-5962B8A2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F39-27A9-4FF2-AF1E-3A3142C0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AA45C-1BE4-428B-8778-342B7B85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A4BBB-261B-4F00-8225-BA226607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BC791-A7B5-4B48-AF9F-3D04909F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8CE60-E146-4DBB-AD86-78E2839E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07D97-BB02-4E1C-9B54-BA0F09B2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9454C-4C74-47E7-93EC-86719C2D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13510-804E-4A1A-9231-1065790E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2E88F-EAB1-4C5D-BFB8-79921BF6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4AF3D-3E54-4DC7-98BE-881235ED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6CF9A-1228-4E7F-B872-6C9139FE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357-BA5B-46C3-91F8-8A55B622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9E46B-3463-4A05-BCF0-999DA2F2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9E4E6-6EF9-4E70-B50E-0773C239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28E3A-55B1-455F-95F6-1A54C2EA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510E1-7B1F-4FED-96B8-1D761E19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3EEF3-4A7E-46C4-9617-FBBE45A3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23788-A542-407B-8156-F7E315B6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1770D-4EDE-4FDB-BF3C-0AE8E5C3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E8848-436C-4B86-A3F8-515FF2E8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C40DA-AFE8-4695-A4E2-1B470EF2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712AA-8282-4BE0-8058-D6992AD9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5B20-70C4-460F-962A-BB93BC30D0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388C-B7C6-468F-9741-F55D26FE65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C4A8-3B97-45CE-AEF1-6993BEB924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929C-AAA8-44C1-81A9-3BAB5BB96F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0F05-FC77-466C-868C-6D9097D22D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92F6-2CB4-4A4B-A199-A2461CD4ED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88EF-8BCB-40AF-AD64-95A22089BE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2545-1287-4450-8698-EAEAE1742B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E2BB-1EE8-4E8F-ADBB-462B15B074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CC6F-3568-45EB-8395-B29B2BB8E6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7282-A7E8-4F80-B61C-F0A6F41AA5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64AA-F67C-4B99-B70A-174B6E2781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17CA-2BA4-4471-A9F2-813208860D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6788-3356-432F-9B95-2B4AC23F1B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4CEE-AE33-42CD-8EA1-5803D0A9F6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F5F8-1A2C-47F0-ACB1-EC3F0EC724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CE98-1162-4658-8CB8-FAEA89A648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E6A9-39C7-4F17-B958-496DB466B1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CF35-B07B-4DF9-86C5-10FBECEC26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6E6D-358E-4AB2-88D9-85C6D020A3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C7C0-D98E-4308-BBA1-01E5A28E2B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DB7A-4E26-498C-B564-130EF4DEED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BC2D-563F-4040-B4BB-5E701E9B4F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61BB-ED63-47F1-8E60-4376475EC6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9ED8-08D3-4066-A056-591CCB2771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E693-F17E-4390-863C-3275C2B233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5C47-CD27-4F5D-87E8-993171A7A3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359A-0FA4-4FAD-8736-2E5B0EA40B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685D-B57F-4AC7-BCD2-460009F5EF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B0BF-2248-4447-A5E5-4AE6BD0EF8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506F-F733-446E-BB4A-C3B6CCDBBC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832C-C99E-48FE-B797-E3D5426906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032C-B835-4239-8C78-00D769738D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271E-2F39-44AF-BAC8-6E6BD39509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D364-30E3-4109-ACA4-B350105EE9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EBDE-E36C-46EE-9E9C-834C567187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BEE9-45C5-46AF-B191-C3F9009390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F78D-3D16-4A3D-81E2-5C87C13C37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F25D-6B21-475B-A138-C9827A5635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1268-D8B3-45E3-83F2-25F1B3F73D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19240" y="1700280"/>
            <a:ext cx="5105520" cy="14000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585880" y="3297240"/>
            <a:ext cx="39722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69633" descr=""/>
          <p:cNvPicPr/>
          <p:nvPr/>
        </p:nvPicPr>
        <p:blipFill>
          <a:blip r:embed="rId1"/>
          <a:stretch/>
        </p:blipFill>
        <p:spPr>
          <a:xfrm>
            <a:off x="1119240" y="1052640"/>
            <a:ext cx="6905520" cy="220032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69634" descr=""/>
          <p:cNvPicPr/>
          <p:nvPr/>
        </p:nvPicPr>
        <p:blipFill>
          <a:blip r:embed="rId2"/>
          <a:stretch/>
        </p:blipFill>
        <p:spPr>
          <a:xfrm>
            <a:off x="538200" y="3400560"/>
            <a:ext cx="8067600" cy="2333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4356000" y="134136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7567560" y="134136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4211640" y="227664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7308720" y="220500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7"/>
          <a:stretch/>
        </p:blipFill>
        <p:spPr>
          <a:xfrm>
            <a:off x="2050920" y="371628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8"/>
          <a:stretch/>
        </p:blipFill>
        <p:spPr>
          <a:xfrm>
            <a:off x="4859280" y="371628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9"/>
          <a:stretch/>
        </p:blipFill>
        <p:spPr>
          <a:xfrm>
            <a:off x="8317080" y="3789360"/>
            <a:ext cx="576000" cy="7920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0"/>
          <a:stretch/>
        </p:blipFill>
        <p:spPr>
          <a:xfrm>
            <a:off x="1979640" y="458136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1"/>
          <a:stretch/>
        </p:blipFill>
        <p:spPr>
          <a:xfrm>
            <a:off x="5003640" y="458136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2"/>
          <a:stretch/>
        </p:blipFill>
        <p:spPr>
          <a:xfrm>
            <a:off x="7956720" y="4653000"/>
            <a:ext cx="792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00160" y="938160"/>
            <a:ext cx="8743680" cy="49816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4356000" y="3645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04800" y="1924200"/>
            <a:ext cx="7934400" cy="30096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2987640" y="3141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6227640" y="3730680"/>
            <a:ext cx="187344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2268360" y="4336920"/>
            <a:ext cx="4680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271440" y="1004760"/>
            <a:ext cx="8601120" cy="4848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1042920" y="3011400"/>
            <a:ext cx="3673440" cy="922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971640" y="4019400"/>
            <a:ext cx="396072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971640" y="4653000"/>
            <a:ext cx="396072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900000" y="5229360"/>
            <a:ext cx="633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285840" y="773280"/>
            <a:ext cx="8572320" cy="58957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39272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1087560" y="3890880"/>
            <a:ext cx="5111640" cy="9781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900000" y="4984920"/>
            <a:ext cx="439272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826920" y="5589720"/>
            <a:ext cx="439272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826920" y="6165720"/>
            <a:ext cx="6481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252360" y="947880"/>
            <a:ext cx="8639280" cy="49622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4032360" cy="10796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1547640" y="3573360"/>
            <a:ext cx="288000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1476360" y="4091040"/>
            <a:ext cx="287964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1476360" y="472428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684360" y="5329080"/>
            <a:ext cx="5975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5300" descr=""/>
          <p:cNvPicPr/>
          <p:nvPr/>
        </p:nvPicPr>
        <p:blipFill>
          <a:blip r:embed="rId1"/>
          <a:stretch/>
        </p:blipFill>
        <p:spPr>
          <a:xfrm>
            <a:off x="237960" y="1238400"/>
            <a:ext cx="866808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429320" cy="61437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5219640" y="2205000"/>
            <a:ext cx="108108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659640" y="2205000"/>
            <a:ext cx="108108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5292720" y="2924280"/>
            <a:ext cx="108108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6732720" y="2924280"/>
            <a:ext cx="108108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5148360" y="364500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7"/>
          <a:stretch/>
        </p:blipFill>
        <p:spPr>
          <a:xfrm>
            <a:off x="6732720" y="3645000"/>
            <a:ext cx="108108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8"/>
          <a:stretch/>
        </p:blipFill>
        <p:spPr>
          <a:xfrm>
            <a:off x="5148360" y="4365720"/>
            <a:ext cx="122400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9"/>
          <a:stretch/>
        </p:blipFill>
        <p:spPr>
          <a:xfrm>
            <a:off x="6588000" y="4365720"/>
            <a:ext cx="129708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0"/>
          <a:stretch/>
        </p:blipFill>
        <p:spPr>
          <a:xfrm>
            <a:off x="5076720" y="5041800"/>
            <a:ext cx="1224000" cy="493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1"/>
          <a:stretch/>
        </p:blipFill>
        <p:spPr>
          <a:xfrm>
            <a:off x="6516720" y="5041800"/>
            <a:ext cx="129708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2"/>
          <a:stretch/>
        </p:blipFill>
        <p:spPr>
          <a:xfrm>
            <a:off x="5148360" y="5734080"/>
            <a:ext cx="122400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3"/>
          <a:stretch/>
        </p:blipFill>
        <p:spPr>
          <a:xfrm>
            <a:off x="6588000" y="5734080"/>
            <a:ext cx="129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561960" y="1347840"/>
            <a:ext cx="8020080" cy="4162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7561440" cy="1150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1042920" y="4292640"/>
            <a:ext cx="756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2:3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